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60E-FE40-4C6D-B2B6-5429921C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109-EAD4-4528-9DF8-35D98B74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19A-2983-4057-991F-B90CE044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C91-CFAD-4AB0-A01F-6E3ACD79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BCA-E88F-4D3B-B3F7-ABE61AD8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27B-A5B2-4C86-987A-B6F5F83D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BD7-18E9-4A0F-B091-0C8EAB0B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3F5-FBFB-4079-8179-964DFB8E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54C-3BE4-4A6D-9707-BCA735CA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1D5C-CDEE-4ABD-85AC-18F92453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FB7-5ABC-4BC4-834A-1D400A1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179-868A-48D6-B8FC-86732253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F906-5735-4B71-8493-471524DAB9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tion 2: Understanding Chemical Rea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d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way of representing chemical re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lls what reacts and what is produc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eft side of the equation lists all the reactants while the right side lists all the produc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rrow points between the reactants and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ant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du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g. Iron + Oxyg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ron(III) ox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1 – 4 on page 2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serving Ma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w of Conservation of Mass states that, in a chemical reaction, the total mass of the reactants is always equal to the total mass of the produ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ing that the mass of the products is always the same as the mass of the react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lancing Chemical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describe chemical reactions in two 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word equ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g. methane + oxygen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arbon dioxide + wa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keleton equ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g.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+ 2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+ 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the Law of Conservation of Mass the mass of the reactants must equal the mass of the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must be a balance between the number of atoms in the reactants and the number of atoms in the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to Balance an Eq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ron reacts with oxygen to form magnetic iron oxide (F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.  What is the balanced chemical equation for this reac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p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rite the word equation for the reac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iron + oxygen </a:t>
            </a: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magnetic iron oxi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rite the skeleton equation by replacing each name with a correct formul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Fe + 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Fe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unt the numbers of atoms of each type in reactants and produc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Type of atom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Reactants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Fe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O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ltiple each of the formulas by the appropriate coefficients to balance the number of ato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3Fe + 2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 Fe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O</a:t>
            </a:r>
            <a:r>
              <a:rPr b="0" lang="en-US" sz="1800" spc="-1" strike="noStrike" baseline="-25000">
                <a:solidFill>
                  <a:srgbClr val="ffcc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OU TRY IT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the following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g + 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aq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Mg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g +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(aq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+ Mg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1 – 3 on page 2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1:00:43Z</dcterms:created>
  <dc:creator>Administrator</dc:creator>
  <dc:description/>
  <dc:language>en-US</dc:language>
  <cp:lastModifiedBy>amy.cook</cp:lastModifiedBy>
  <dcterms:modified xsi:type="dcterms:W3CDTF">2010-11-22T18:21:09Z</dcterms:modified>
  <cp:revision>18</cp:revision>
  <dc:subject/>
  <dc:title>Section 2: Understanding Chemical Reactions</dc:title>
</cp:coreProperties>
</file>